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D965-2D62-4DE4-866F-D804C2337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9313-E244-4288-8454-34B77E11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3D7A-A7A8-44E0-9A53-2AFF5F1B3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866D-4920-4375-9F6A-CAEA46BA9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62A0-1D8B-41DC-9850-67CBC0AEF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FDE0-FD3E-4EEF-AAA9-E2B0362E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7A7B-55F9-4F0E-B5EF-DB32A734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DBC3-B1A8-423C-89A0-B74E1E31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5200-0EA6-4E0B-9C76-A3A08186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AFA0-02A5-4D4C-A1E4-41EB56EF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B8F7-C1DE-4BA9-958F-5E29DE2D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9BAB-D98A-48DD-83F6-E624A869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6822-B16D-447D-B940-3A444E0B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4800-FCE0-4153-8728-6C94D710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4779-2DB6-42D9-B9E9-D660098F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A65A-C799-4167-9CE6-12EEC7147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528A-DD84-4799-AFDF-B86BBB9A2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53F83-5E4E-4F88-A4B4-E2FA16271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D010F-4E58-4D70-8A88-9C76C523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5444C-9C46-4A63-A3B4-2B573BC6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0B4E1-40E2-4AD0-879B-5F991626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3D842-BA4F-4261-AD3F-0E6EEE55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BFC2-5912-462B-BFFE-7D52471E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386F6-C6D3-461C-A8E1-2FC21ED7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38F11-2A5F-450A-9931-52411841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F6CA1-B372-4A90-AC08-0FAAC73C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F5A85-8B7A-4F3E-BCA0-0C854621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BF42F-06B3-46DD-AC06-9E73BCDD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F16FB-625B-40A4-B1AD-FA01346EC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39D6D-7977-4598-9EA6-013ACA51E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2FB0D-2D77-447B-B1DC-2FAD689B6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4A7E5-FCDF-4127-BF11-03D2A502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C53C9-1D4A-454C-8198-4D250ECC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53D8-B1E1-4E0E-A600-B80B79EE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7B640-ABB4-4F0A-AB3B-DCDA018D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09751-37CF-48EB-933E-2785DC24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D3D1D-4723-4BD6-A790-805B7679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2E3C4-1E7C-4904-A081-951F3538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03B25-D831-48D5-BEA4-021F1BAF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D99F0-8F0C-4ECD-B068-9B323C78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69A21-6BF9-4C60-8403-D46557F9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D505A-7A7C-4209-BF04-5058B4FC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7ACA7-D285-4D5B-81E4-F2D00568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E0BE6-AE76-40C9-9777-BD0FDB877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993D-0EC6-4617-8A63-C6C13B07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B657B-9C04-492F-B7AD-7816C6CC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C220C-2C4E-4568-8883-0679CAD5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F933B-A7A7-4467-B089-A679F36E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B7101-A390-4817-AF3D-A1EBFFA7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2048B-A693-493D-9C73-AA8F664C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E7AB5-1428-4E7C-A950-5053CC96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EE665-E7DC-4687-B3A7-13D9030A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5872D-EAC6-463D-AEAA-4FF98EF6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34AA1-BA6F-46D1-9CEE-26388640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8C8FB-3CDA-4BF2-ADB9-A46348391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47A0-0546-4FD9-8EF5-D08681F7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8C9A4-9AC4-4FE8-9D7A-179671AC5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6FF1-9368-4D08-A799-9BDF98C9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6006-9203-4075-A2E8-D594E474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620C-9924-49DF-8CB2-DDA9B984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Flowchart: Document 6"/>
          <p:cNvGrpSpPr/>
          <p:nvPr/>
        </p:nvGrpSpPr>
        <p:grpSpPr>
          <a:xfrm>
            <a:off x="-6480" y="792000"/>
            <a:ext cx="9156960" cy="5919840"/>
            <a:chOff x="-6480" y="792000"/>
            <a:chExt cx="9156960" cy="5919840"/>
          </a:xfrm>
        </p:grpSpPr>
        <p:pic>
          <p:nvPicPr>
            <p:cNvPr id="1" name="Flowchart: Document 6" descr=""/>
            <p:cNvPicPr/>
            <p:nvPr/>
          </p:nvPicPr>
          <p:blipFill>
            <a:blip r:embed="rId3"/>
            <a:stretch/>
          </p:blipFill>
          <p:spPr>
            <a:xfrm>
              <a:off x="-6480" y="79200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4" name="Flowchart: Document 7" descr=""/>
            <p:cNvPicPr/>
            <p:nvPr/>
          </p:nvPicPr>
          <p:blipFill>
            <a:blip r:embed="rId4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8D6A-8C9D-4D0C-AD76-5ED46770220C}" type="slidenum">
              <a:rPr b="0" lang="en-US" sz="1400" spc="-1" strike="noStrike">
                <a:solidFill>
                  <a:srgbClr val="bcb7a8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Flowchart: Document 6"/>
          <p:cNvGrpSpPr/>
          <p:nvPr/>
        </p:nvGrpSpPr>
        <p:grpSpPr>
          <a:xfrm>
            <a:off x="-6480" y="792000"/>
            <a:ext cx="9156960" cy="5919840"/>
            <a:chOff x="-6480" y="792000"/>
            <a:chExt cx="9156960" cy="5919840"/>
          </a:xfrm>
        </p:grpSpPr>
        <p:pic>
          <p:nvPicPr>
            <p:cNvPr id="48" name="Flowchart: Document 6" descr=""/>
            <p:cNvPicPr/>
            <p:nvPr/>
          </p:nvPicPr>
          <p:blipFill>
            <a:blip r:embed="rId3"/>
            <a:stretch/>
          </p:blipFill>
          <p:spPr>
            <a:xfrm>
              <a:off x="-6480" y="79200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51" name="Flowchart: Document 7" descr=""/>
            <p:cNvPicPr/>
            <p:nvPr/>
          </p:nvPicPr>
          <p:blipFill>
            <a:blip r:embed="rId4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" name="Flowchart: Document 6"/>
          <p:cNvGrpSpPr/>
          <p:nvPr/>
        </p:nvGrpSpPr>
        <p:grpSpPr>
          <a:xfrm>
            <a:off x="-6480" y="1170000"/>
            <a:ext cx="9156960" cy="3792600"/>
            <a:chOff x="-6480" y="1170000"/>
            <a:chExt cx="9156960" cy="3792600"/>
          </a:xfrm>
        </p:grpSpPr>
        <p:pic>
          <p:nvPicPr>
            <p:cNvPr id="54" name="Flowchart: Document 6" descr=""/>
            <p:cNvPicPr/>
            <p:nvPr/>
          </p:nvPicPr>
          <p:blipFill>
            <a:blip r:embed="rId5"/>
            <a:stretch/>
          </p:blipFill>
          <p:spPr>
            <a:xfrm>
              <a:off x="-6480" y="1170000"/>
              <a:ext cx="9156960" cy="379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rot="10800000">
              <a:off x="0" y="1520640"/>
              <a:ext cx="9144000" cy="34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BB2D-45D5-49CF-8218-024B6C51C0AF}" type="slidenum">
              <a:rPr b="0" lang="en-US" sz="1400" spc="-1" strike="noStrike">
                <a:solidFill>
                  <a:srgbClr val="bcb7a8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7401-3A6D-4626-AC58-79B2F4BD33D2}" type="slidenum">
              <a:rPr b="0" lang="en-US" sz="1400" spc="-1" strike="noStrike">
                <a:solidFill>
                  <a:srgbClr val="bcb7a8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141A-0292-4A1D-AEE9-CA0A8B8A796D}" type="slidenum">
              <a:rPr b="0" lang="en-US" sz="1400" spc="-1" strike="noStrike">
                <a:solidFill>
                  <a:srgbClr val="bcb7a8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6133-BA67-4C08-9BAF-99304996DE79}" type="slidenum">
              <a:rPr b="0" lang="en-US" sz="1400" spc="-1" strike="noStrike">
                <a:solidFill>
                  <a:srgbClr val="bcb7a8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auschwitz.dk/mengele/id17.htm" TargetMode="External"/><Relationship Id="rId3" Type="http://schemas.openxmlformats.org/officeDocument/2006/relationships/hyperlink" Target="http://www.mengele.dk/new_page_2.ht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96840" y="2577960"/>
            <a:ext cx="8645400" cy="23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0040" y="156060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rbel"/>
              </a:rPr>
              <a:t>Nazi Doctor of Auschwitz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22" name="Picture 2" descr="http://bulevoador.haaan.com/wp-content/uploads/2009/10/Josef-mengele.jpg"/>
          <p:cNvPicPr/>
          <p:nvPr/>
        </p:nvPicPr>
        <p:blipFill>
          <a:blip r:embed="rId2"/>
          <a:stretch/>
        </p:blipFill>
        <p:spPr>
          <a:xfrm>
            <a:off x="5867280" y="3657600"/>
            <a:ext cx="230688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79200" y="530280"/>
            <a:ext cx="8614080" cy="15667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Victims of Mengele- </a:t>
            </a:r>
            <a:r>
              <a:rPr b="0" lang="en-US" sz="3000" spc="-1" strike="noStrike" u="sng">
                <a:solidFill>
                  <a:srgbClr val="fa7d7a"/>
                </a:solidFill>
                <a:uFillTx/>
                <a:latin typeface="Corbel"/>
                <a:hlinkClick r:id="rId2"/>
              </a:rPr>
              <a:t>http://www.auschwitz.dk/mengele/id17.ht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engele, Angel of Death- </a:t>
            </a:r>
            <a:r>
              <a:rPr b="0" lang="en-US" sz="3000" spc="-1" strike="noStrike" u="sng">
                <a:solidFill>
                  <a:srgbClr val="fa7d7a"/>
                </a:solidFill>
                <a:uFillTx/>
                <a:latin typeface="Corbel"/>
                <a:hlinkClick r:id="rId3"/>
              </a:rPr>
              <a:t>http://www.mengele.dk/new_page_2.ht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Title 1" descr=""/>
          <p:cNvPicPr/>
          <p:nvPr/>
        </p:nvPicPr>
        <p:blipFill>
          <a:blip r:embed="rId1"/>
          <a:stretch/>
        </p:blipFill>
        <p:spPr>
          <a:xfrm>
            <a:off x="152280" y="530280"/>
            <a:ext cx="8620200" cy="1566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r. Josef Menge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64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Born- March 16, 1911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64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Died- 1979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Volunteered to  be transferred to Auschwitz after being wounded on the Russian fron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79200" y="530280"/>
            <a:ext cx="8614080" cy="15667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pent 21 months at Auschwitz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64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While he was there he performed experiments on the Jewish twins brought to the camp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60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icknamed “the Angel of Death”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550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He added to his reputation by added horrible policies including in one account where he drew a line on a wall in the children's block and sending any child who’s head is above the line to the gas chambers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79200" y="530280"/>
            <a:ext cx="8614080" cy="1566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engele sent hundreds of thousands of Jews to the gas chamber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64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Men, women, children, babies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ne account shows the details of a gruesome act performed by Mengel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64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 mother didn’t want to separate from her daughter so he sent the whole group he was inspecting to the gas chambers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79200" y="530280"/>
            <a:ext cx="8614080" cy="1566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Mengele became obsessed with twins in the camp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04800" indent="-262080">
              <a:spcBef>
                <a:spcPts val="60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egan doing experiments on every pair of twins he could find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885240" indent="-261720">
              <a:spcBef>
                <a:spcPts val="550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Including blood draining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06000" indent="-306000">
              <a:spcBef>
                <a:spcPts val="700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Mengele once gathered 14 pairs of twins from the camp in the night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04800" indent="-262080">
              <a:spcBef>
                <a:spcPts val="60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He had them all place on tables in his lab as he put them to sleep and then injected chloroform into their hearts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0" y="530280"/>
            <a:ext cx="8620200" cy="1566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He performed unspeakable experiments on the unaware twins he rounded up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lnSpc>
                <a:spcPct val="80000"/>
              </a:lnSpc>
              <a:spcBef>
                <a:spcPts val="550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Including: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lnSpc>
                <a:spcPct val="80000"/>
              </a:lnSpc>
              <a:spcBef>
                <a:spcPts val="499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njecting their eyes with chemicals to change their eye color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lnSpc>
                <a:spcPct val="80000"/>
              </a:lnSpc>
              <a:spcBef>
                <a:spcPts val="499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Physical and psychological procedures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lnSpc>
                <a:spcPct val="80000"/>
              </a:lnSpc>
              <a:spcBef>
                <a:spcPts val="499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Experimental surgeries without anesthesia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lnSpc>
                <a:spcPct val="80000"/>
              </a:lnSpc>
              <a:spcBef>
                <a:spcPts val="499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Blood transfusions between twin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lnSpc>
                <a:spcPct val="80000"/>
              </a:lnSpc>
              <a:spcBef>
                <a:spcPts val="499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solation enduranc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lnSpc>
                <a:spcPct val="80000"/>
              </a:lnSpc>
              <a:spcBef>
                <a:spcPts val="499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timuli reaction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lnSpc>
                <a:spcPct val="80000"/>
              </a:lnSpc>
              <a:spcBef>
                <a:spcPts val="499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njections of lethal germ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lnSpc>
                <a:spcPct val="80000"/>
              </a:lnSpc>
              <a:spcBef>
                <a:spcPts val="499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x change operation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lnSpc>
                <a:spcPct val="80000"/>
              </a:lnSpc>
              <a:spcBef>
                <a:spcPts val="499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Removal of organs and limb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79200" y="530280"/>
            <a:ext cx="8614080" cy="15667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is experiments are chronicled in the book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The Children of the Flames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64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ll of his approximate three thousands subject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60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recy of his experiments gave him the privilege of  effectively performing the experiment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79200" y="530280"/>
            <a:ext cx="8614080" cy="15667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led Auschwitz in 1945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64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Disguised himself as a regular German infantry soldier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eft Germany in 1948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37" name="Picture 3" descr="Dr_mengele.jpg"/>
          <p:cNvPicPr/>
          <p:nvPr/>
        </p:nvPicPr>
        <p:blipFill>
          <a:blip r:embed="rId2"/>
          <a:stretch/>
        </p:blipFill>
        <p:spPr>
          <a:xfrm>
            <a:off x="4724280" y="3581280"/>
            <a:ext cx="25448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1" descr=""/>
          <p:cNvPicPr/>
          <p:nvPr/>
        </p:nvPicPr>
        <p:blipFill>
          <a:blip r:embed="rId1"/>
          <a:stretch/>
        </p:blipFill>
        <p:spPr>
          <a:xfrm>
            <a:off x="79200" y="530280"/>
            <a:ext cx="8614080" cy="15667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fter he ran from Germany to South America he lived for 35 years under many different aliase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e eventually died in 1979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64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He had a stroke while swimming in the ocean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40" name="Picture 3" descr="1276da10.jpg"/>
          <p:cNvPicPr/>
          <p:nvPr/>
        </p:nvPicPr>
        <p:blipFill>
          <a:blip r:embed="rId2"/>
          <a:stretch/>
        </p:blipFill>
        <p:spPr>
          <a:xfrm>
            <a:off x="2590920" y="4191120"/>
            <a:ext cx="1676160" cy="2476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7:06:29Z</dcterms:created>
  <dc:creator> </dc:creator>
  <dc:description/>
  <dc:language>en-US</dc:language>
  <cp:lastModifiedBy> </cp:lastModifiedBy>
  <dcterms:modified xsi:type="dcterms:W3CDTF">2009-11-24T17:22:13Z</dcterms:modified>
  <cp:revision>16</cp:revision>
  <dc:subject/>
  <dc:title>Slide 1</dc:title>
</cp:coreProperties>
</file>